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963-2FE8-4201-BC33-265D0707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458-E14C-4194-B2EF-7F57B03D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15B-82D8-4148-BAC9-D67CEB3F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3B6-0A0A-4E75-B7FC-8CD0C580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5D5-ED49-4B2F-9636-D1BDB231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F40-6822-4ED1-8E98-9FE09D4B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592-2DE5-47C2-A498-1AB273C6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00F-E533-40E7-BB98-94A77CA0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133-F009-40F1-A9C8-AB7E5A3A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48E-27B4-445A-8839-88168CE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333-DA1F-45BC-85DE-44BD9A0E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CB7-5F2E-41C0-A097-6BB4B3F7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7C60-19EF-46B9-A8EF-07914D922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97180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backpack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95280" y="281952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pencil case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5120" y="2895480"/>
            <a:ext cx="525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n eraser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295280" y="2057400"/>
            <a:ext cx="6477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pencil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rpener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6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c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7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9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1828800"/>
            <a:ext cx="6019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4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23880" y="1676520"/>
            <a:ext cx="6096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ompa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371600" y="1828800"/>
            <a:ext cx="6477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omp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ov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00200" y="1828800"/>
            <a:ext cx="5715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at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all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28800" y="2743200"/>
            <a:ext cx="54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ac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2819520"/>
            <a:ext cx="5257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981080" y="2438280"/>
            <a:ext cx="5257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r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2895480"/>
            <a:ext cx="60195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371600" y="2743200"/>
            <a:ext cx="5791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676520" y="1523880"/>
            <a:ext cx="5715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V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371600" y="2514600"/>
            <a:ext cx="5791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bracel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371600" y="2895480"/>
            <a:ext cx="57913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sneak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95280" y="2438280"/>
            <a:ext cx="6248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shee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a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05120" y="274320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comp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95280" y="2590920"/>
            <a:ext cx="6705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omb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gas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répon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trouv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ça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j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'aime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 magasi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estions/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épons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 trouv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ça..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o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'aime.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63120" y="6477120"/>
            <a:ext cx="228600" cy="152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274320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cuse 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k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 voudr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he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formal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'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lcom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523880" y="1676520"/>
            <a:ext cx="5943600" cy="38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u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tha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371600" y="2057400"/>
            <a:ext cx="6019920" cy="29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it i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'm sor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you ha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pap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don't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pap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219320" y="213372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do y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for French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s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l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523880" y="281952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es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219320" y="2286000"/>
            <a:ext cx="57909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scina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l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752480" y="2590920"/>
            <a:ext cx="5410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752480" y="2438280"/>
            <a:ext cx="55627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es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81080" y="236232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n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905120" y="243828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i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981080" y="243828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dnes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s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281952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/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rm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 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l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wi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le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23880" y="1752480"/>
            <a:ext cx="57150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talk 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ho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go shopp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828800" y="175248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go hors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 ri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s verbe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"ER"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ur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co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VO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b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 voudra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chet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e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 &amp; 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is/thes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udi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/tu/i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us/vous/il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'étudie/tu étudies/il étud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us étudions/ v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udiez/ils étudi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ruler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dsa'ljg'prg</cp:lastModifiedBy>
  <dcterms:modified xsi:type="dcterms:W3CDTF">2006-12-04T00:16:38Z</dcterms:modified>
  <cp:revision>30</cp:revision>
  <dc:subject/>
  <dc:title>No Slide Title</dc:title>
</cp:coreProperties>
</file>